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A235-AB5F-45AA-888D-B1F75EA1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8F41-F0A0-4198-A8CC-33D22B40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4BE2-5714-4A47-8131-0A818FAA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BDA6-C162-458E-97AC-CD7FC0D0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BD4FD-1F89-4690-9D06-73AA0E95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68810-37E7-484A-B654-95D2002A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F6219-9072-4A00-9609-339940E8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4F9E7-FF4A-4005-9FFB-7EE32F5C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C0A18-CC34-406C-85E1-A714D821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A81D5-2F93-4994-B48F-B46E6F71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A4CF5-BD27-4AD8-9B4A-5268E1BE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D6FE-C7D4-4777-ABB8-5BE0A27F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1EA16-8E5D-4BD5-B303-23C2BCB8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E00E3-B749-43F0-AF32-61AD229B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AF8AC-B01B-4AD1-B9B0-914E6FB9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157B8-4C27-4BD0-B3C4-EE35DE42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72BB4-8121-4799-9F73-31A2B674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26E6-225B-4E33-9D83-38DDA62F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9E9D-5795-4087-AB0F-571F4E2E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A0DB-03A2-402E-B29D-EEAB172D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21B0-6B59-44F8-A78F-31543964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6860-7C6F-49D9-B0E5-D1BEFD5F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533A-A8D1-4472-83A1-326121D5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5AE0-DB95-4055-BA42-E5FC753E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D398-BFA3-40FE-8E05-0B9D6725A3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C48A-1210-45B3-9DE7-735793C70F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bensguide.gpo.gov/3-5/state/california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04920" y="457200"/>
            <a:ext cx="8076960" cy="364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aliforn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3809880"/>
            <a:ext cx="2210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22/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#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5410080"/>
            <a:ext cx="3276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tate song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ww.50states.com/califor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1320" y="5105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name: Califor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ital: Sacra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:33,871,6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ed the union: September 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1850 the 3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ate to jo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to: Eure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ckname: Golden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wer: Golden Pop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d: California Valley Qu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g: I love you Califor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ing behind name: named after califia, a mythical paradi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California: Map and State Flag"/>
          <p:cNvPicPr/>
          <p:nvPr/>
        </p:nvPicPr>
        <p:blipFill>
          <a:blip r:embed="rId1"/>
          <a:srcRect l="0" t="0" r="9871" b="74839"/>
          <a:stretch/>
        </p:blipFill>
        <p:spPr>
          <a:xfrm>
            <a:off x="457200" y="304920"/>
            <a:ext cx="3048120" cy="1904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California: Map and State Flag"/>
          <p:cNvPicPr/>
          <p:nvPr/>
        </p:nvPicPr>
        <p:blipFill>
          <a:blip r:embed="rId2"/>
          <a:srcRect l="0" t="26965" r="0" b="0"/>
          <a:stretch/>
        </p:blipFill>
        <p:spPr>
          <a:xfrm>
            <a:off x="3962520" y="457200"/>
            <a:ext cx="3171600" cy="4238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14400" y="3886200"/>
            <a:ext cx="2819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’s guide to U.S. government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quick facts: California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23/10 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bensguide.gpo.gov/3-5/state/california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© 1999 WriteLine. Poppy"/>
          <p:cNvPicPr/>
          <p:nvPr/>
        </p:nvPicPr>
        <p:blipFill>
          <a:blip r:embed="rId1"/>
          <a:stretch/>
        </p:blipFill>
        <p:spPr>
          <a:xfrm>
            <a:off x="0" y="0"/>
            <a:ext cx="4267080" cy="3124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© 1999 WriteLine. Valley Quail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276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3505320"/>
            <a:ext cx="41148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cards for Americ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alifornia state stamps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9/23/2010 http://www.postcardsfrom.com/stamp/stamp-ca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342900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cards for Americ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alifornia state stamps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9/23/2010     http://www.postcardsfrom.com/stamp/stamp-ca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5257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state flower is a golden popp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5029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valley quail is California’s state bir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1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12119 L 0.077 0.31697 L -0.077 0.31697 L -0.125 0.12119 L 0 0 Z">
                                      <p:cBhvr>
                                        <p:cTn id="75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2 0.014 -0.02797 0.021 -0.04661 C 0.04 -0.09988 0.045 -0.15182 0.031 -0.15982 C 0.017 -0.16914 -0.01 -0.13185 -0.029 -0.07858 C -0.039 -0.05061 -0.045 -0.02397 -0.047 -0.004 C -0.05 0.01199 -0.051 0.02797 -0.051 0.04661 C -0.051 0.10654 -0.038 0.15582 -0.023 0.15582 C -0.008 0.15582 0.005 0.10654 0.005 0.04661 C 0.005 0.01865 0.002 -0.00799 -0.003 -0.02664 C -0.005 -0.04262 -0.01 -0.05993 -0.016 -0.07724 C -0.036 -0.13185 -0.063 -0.16914 -0.077 -0.15982 C -0.091 -0.15049 -0.086 -0.09988 -0.066 -0.04528 C -0.058 -0.01998 -0.047 0.00133 -0.036 0.01598 C -0.028 0.0293 -0.019 0.04129 -0.007 0.05327 C 0.029 0.09189 0.065 0.10921 0.075 0.09323 C 0.084 0.07724 0.064 0.03329 0.028 -0.004 C 0.013 -0.01998 -0.003 -0.03196 -0.016 -0.03995 C -0.028 -0.04794 -0.043 -0.0546 -0.059 -0.0586 C -0.103 -0.07192 -0.141 -0.06792 -0.144 -0.04661 C -0.148 -0.02664 -0.115 0 -0.071 0.01332 C -0.051 0.01865 -0.032 0.02131 -0.017 0.01998 C -0.004 0.01998 0.01 0.01731 0.025 0.01332 C 0.069 0 0.102 -0.02797 0.098 -0.04794 C 0.095 -0.06792 0.057 -0.07325 0.013 -0.05993 C -0.008 -0.05327 -0.027 -0.04395 -0.04 -0.03329 C -0.051 -0.0253 -0.062 -0.01598 -0.074 -0.004 C -0.109 0.03463 -0.13 0.07724 -0.12 0.09323 C -0.111 0.10921 -0.074 0.09189 -0.039 0.0546 C -0.022 0.03596 -0.008 0.01731 0 0 Z">
                                      <p:cBhvr>
                                        <p:cTn id="79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All images Copyright © 1997 - 2000 WriteLine. All Rights Reserved. Sacramento Capitol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04920" y="5105520"/>
            <a:ext cx="80769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acrament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ifornia, 9/23/2010  http://www.postcardsfrom.com/t1/990608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16765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my states capi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85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05:45Z</dcterms:created>
  <dc:creator>install</dc:creator>
  <dc:description/>
  <dc:language>en-US</dc:language>
  <cp:lastModifiedBy>install</cp:lastModifiedBy>
  <dcterms:modified xsi:type="dcterms:W3CDTF">2010-10-14T13:21:08Z</dcterms:modified>
  <cp:revision>12</cp:revision>
  <dc:subject/>
  <dc:title>Slide 1</dc:title>
</cp:coreProperties>
</file>